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98B2-B806-49D8-A9EA-520849A8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A756-8925-4FFB-98C5-F03C99B7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30E3-EB54-4648-BC9C-7FB3CEE1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9028-5FD1-4B6D-8213-2A3E56CA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18CB-7935-4AF5-A300-DA7A7485C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9748-622D-4949-9299-376DF4C1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7599-0901-467D-AD10-5E0006DD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3E97-2ABA-4D30-A43B-00850AE1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70B8-9080-4DCB-839D-64B94C42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61AE-6B12-4852-86E4-D8845056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F951-E28B-4201-8DC2-72A390E2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C284-26A6-4E87-91BC-97EC74BE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2039-9FB2-4F9A-8287-D7220B87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5E05-BEEF-4EC6-A785-00FE941D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DF63-41B8-4A91-A5BA-D16A863B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858D-792C-4907-A1D9-04C25275B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8096-998B-412A-BB94-1E0AD8D1C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4455-6499-48FA-A1C3-897DB8B0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CAFD-579F-4942-BCF5-7250C690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8135-545B-45D3-A912-B3BB24C2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594D-6632-4A3F-81BE-4E437630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3551-98E3-4912-A711-2A99CB03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5C02-2E04-4E47-9496-799045DF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1DBB-7E76-449F-ACAE-FCBAE462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D57E-5DB2-480B-A933-5EA67000B7D4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854F-F109-466B-845E-26623528EAD4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m197701770169" descr="Italian family on ferry 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m197701770007" descr="From Sicily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67280"/>
          </a:xfrm>
          <a:prstGeom prst="rect">
            <a:avLst/>
          </a:prstGeom>
          <a:ln w="0">
            <a:noFill/>
          </a:ln>
        </p:spPr>
      </p:pic>
      <p:pic>
        <p:nvPicPr>
          <p:cNvPr id="110" name="m197701770031" descr="Italians at Ellis Island.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m197701770013" descr="A group of German immigra"/>
          <p:cNvPicPr/>
          <p:nvPr/>
        </p:nvPicPr>
        <p:blipFill>
          <a:blip r:embed="rId1"/>
          <a:stretch/>
        </p:blipFill>
        <p:spPr>
          <a:xfrm>
            <a:off x="0" y="0"/>
            <a:ext cx="9144000" cy="6586560"/>
          </a:xfrm>
          <a:prstGeom prst="rect">
            <a:avLst/>
          </a:prstGeom>
          <a:ln w="0">
            <a:noFill/>
          </a:ln>
        </p:spPr>
      </p:pic>
      <p:pic>
        <p:nvPicPr>
          <p:cNvPr id="112" name="m197701770112" descr="Bohemian. Ellis Island (J"/>
          <p:cNvPicPr/>
          <p:nvPr/>
        </p:nvPicPr>
        <p:blipFill>
          <a:blip r:embed="rId2"/>
          <a:stretch/>
        </p:blipFill>
        <p:spPr>
          <a:xfrm>
            <a:off x="0" y="0"/>
            <a:ext cx="914400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38240" y="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14" name="m197701770040" descr="Climbing Into America. El"/>
          <p:cNvPicPr/>
          <p:nvPr/>
        </p:nvPicPr>
        <p:blipFill>
          <a:blip r:embed="rId1"/>
          <a:stretch/>
        </p:blipFill>
        <p:spPr>
          <a:xfrm>
            <a:off x="1817640" y="0"/>
            <a:ext cx="540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114640" y="-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16" name="m197701770125" descr="Ellis Island, Italian Mad"/>
          <p:cNvPicPr/>
          <p:nvPr/>
        </p:nvPicPr>
        <p:blipFill>
          <a:blip r:embed="rId1"/>
          <a:stretch/>
        </p:blipFill>
        <p:spPr>
          <a:xfrm>
            <a:off x="2247840" y="0"/>
            <a:ext cx="478152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m197701770129" descr="Italian mother &amp; child at"/>
          <p:cNvPicPr/>
          <p:nvPr/>
        </p:nvPicPr>
        <p:blipFill>
          <a:blip r:embed="rId2"/>
          <a:stretch/>
        </p:blipFill>
        <p:spPr>
          <a:xfrm>
            <a:off x="1828800" y="0"/>
            <a:ext cx="551016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395px-Madonna_and_Child_(Filippo_Lippi)" descr=""/>
          <p:cNvPicPr/>
          <p:nvPr/>
        </p:nvPicPr>
        <p:blipFill>
          <a:blip r:embed="rId3"/>
          <a:srcRect l="0" t="14303" r="0" b="0"/>
          <a:stretch/>
        </p:blipFill>
        <p:spPr>
          <a:xfrm>
            <a:off x="1828800" y="0"/>
            <a:ext cx="5522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128680" y="-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20" name="m197701770134" descr="Italian family looking fo"/>
          <p:cNvPicPr/>
          <p:nvPr/>
        </p:nvPicPr>
        <p:blipFill>
          <a:blip r:embed="rId1"/>
          <a:srcRect l="0" t="10641" r="0" b="0"/>
          <a:stretch/>
        </p:blipFill>
        <p:spPr>
          <a:xfrm>
            <a:off x="2133720" y="0"/>
            <a:ext cx="5235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m197701770043" descr="A representative from one"/>
          <p:cNvPicPr/>
          <p:nvPr/>
        </p:nvPicPr>
        <p:blipFill>
          <a:blip r:embed="rId1"/>
          <a:stretch/>
        </p:blipFill>
        <p:spPr>
          <a:xfrm>
            <a:off x="0" y="130320"/>
            <a:ext cx="9144000" cy="64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197701770030" descr="Ellis Island (Children 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m197701810011" descr="Some of the so-called he"/>
          <p:cNvPicPr/>
          <p:nvPr/>
        </p:nvPicPr>
        <p:blipFill>
          <a:blip r:embed="rId2"/>
          <a:stretch/>
        </p:blipFill>
        <p:spPr>
          <a:xfrm>
            <a:off x="0" y="0"/>
            <a:ext cx="9144000" cy="6802560"/>
          </a:xfrm>
          <a:prstGeom prst="rect">
            <a:avLst/>
          </a:prstGeom>
          <a:ln w="0">
            <a:noFill/>
          </a:ln>
        </p:spPr>
      </p:pic>
      <p:pic>
        <p:nvPicPr>
          <p:cNvPr id="124" name="m197701860022" descr="Breaker boys in coal mine"/>
          <p:cNvPicPr/>
          <p:nvPr/>
        </p:nvPicPr>
        <p:blipFill>
          <a:blip r:embed="rId3"/>
          <a:stretch/>
        </p:blipFill>
        <p:spPr>
          <a:xfrm>
            <a:off x="152280" y="23760"/>
            <a:ext cx="876312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1:39:38Z</dcterms:created>
  <dc:creator>Authorized User</dc:creator>
  <dc:description/>
  <dc:language>en-US</dc:language>
  <cp:lastModifiedBy>Authorized User</cp:lastModifiedBy>
  <dcterms:modified xsi:type="dcterms:W3CDTF">2007-10-19T12:13:35Z</dcterms:modified>
  <cp:revision>1</cp:revision>
  <dc:subject/>
  <dc:title>PowerPoint Presentation</dc:title>
</cp:coreProperties>
</file>